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5991-EE6A-4F0B-9851-7246C26FB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9884-92B4-4E37-A733-DCA8549E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hebioside.ning.com/forum/topics/pre-class-ch-38-angisoperm-reproduction-and-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A0A-9534-4ECA-A84F-5435FACF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5AC6-4365-45BF-A728-ADC7E95A4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reatheandsmile.org/happiness-or-success-which-comes-fir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9C59-663B-44A5-AA77-F9AF790B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F02E-90AF-4556-AC2C-CD3C3228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ight4good.blogspot.ca/2012/05/genetically-modified-foo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9B87-2EF2-4062-9F8B-A42EAF9DB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ccessexcellence.org/RC/VL/GG/restri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F9EC-46B3-4C63-972B-48FCE637A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CFBE-4FDF-4D7E-8DFE-48231740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mages.businessweek.com/ss/09/06/0604_decade_of_disappointments/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ly, from an article calle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cade of disappoint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DDBD-87DA-42DF-97AD-44ECC052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EB0F-A478-4FDD-86A5-D7F109F7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amerfitnation.com/2012/06/game-difficulty-has-not-chang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F8AD-8345-40AF-8E6E-AEC9582C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19EA-E804-4F25-AED6-685F19A4D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kingmountainsmove.com/?p=2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CBB-271D-4262-A87A-DB81E465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2A1-DC5F-4B02-8994-4A32EB83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01B-0AEC-47BC-9C04-8F0C8D3A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892-14E5-4473-BFD3-EB34C03B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196-4A37-44A6-AA01-9602ADCD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09E-E6EA-4B32-B8DF-13F986A9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D34-8008-42B2-97E2-26218C0F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62C-6525-450C-BB3C-0F172353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A59-B698-4DF0-8CDF-AF2508A8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7C5-8DDB-4E2C-8226-9E3366F8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088-5C12-4D39-8ECC-42EACED4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A77-278A-4E53-8A46-0254993D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A984-DCFF-49DA-8EBD-5C5875DE8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ating the Ge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bac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atients have died dur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atients developed leuk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UCCESS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gene therapy in dogs for blindness, in mice for Duchenne muscular dystrophy, and in guinea pigs for hearing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me patients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nital blindness have had their vision almost completely re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from different organisms can be combined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orange kiwi"/>
          <p:cNvPicPr/>
          <p:nvPr/>
        </p:nvPicPr>
        <p:blipFill>
          <a:blip r:embed="rId1"/>
          <a:stretch/>
        </p:blipFill>
        <p:spPr>
          <a:xfrm>
            <a:off x="4648320" y="2770200"/>
            <a:ext cx="3809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restriction"/>
          <p:cNvPicPr/>
          <p:nvPr/>
        </p:nvPicPr>
        <p:blipFill>
          <a:blip r:embed="rId1"/>
          <a:stretch/>
        </p:blipFill>
        <p:spPr>
          <a:xfrm>
            <a:off x="2185920" y="1600200"/>
            <a:ext cx="4618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that produce human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toes with fish antifreeze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ts that produce spider silk in their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 corn with bacterial gene that produces insecti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genetic defect through the addition of normal ge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air of the defective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viruses as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9" descr="Difficulty-road-sign"/>
          <p:cNvPicPr/>
          <p:nvPr/>
        </p:nvPicPr>
        <p:blipFill>
          <a:blip r:embed="rId1"/>
          <a:stretch/>
        </p:blipFill>
        <p:spPr>
          <a:xfrm>
            <a:off x="685800" y="770040"/>
            <a:ext cx="77724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eatments necessary to have sustained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control placement of inserted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 may attack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 may caus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seases are caused by more than one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9" descr="overcome-obstacles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5:04:13Z</dcterms:created>
  <dc:creator>rubina khan</dc:creator>
  <dc:description/>
  <dc:language>en-US</dc:language>
  <cp:lastModifiedBy>rubina khan</cp:lastModifiedBy>
  <dcterms:modified xsi:type="dcterms:W3CDTF">2015-12-05T03:06:58Z</dcterms:modified>
  <cp:revision>25</cp:revision>
  <dc:subject/>
  <dc:title>PowerPoint Presentation</dc:title>
</cp:coreProperties>
</file>